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52E-2633-44F0-8E88-2BCBAB11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F7E-39FC-4DC8-A341-14470DE2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B37C-785F-4E1B-902A-30FB2AE7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70B-D9A5-4305-8745-3A0FF3C3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2871-AFE8-42F3-87BA-B5492A01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E6A-9A81-4AF1-A88A-EAD81C1A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7138-6478-4F1E-AEC1-338CE1AB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FC6-A692-443B-977F-ABC99B82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25E5-D12F-49CD-9D77-46B16438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E664-86FB-4068-8782-B859BCBD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33D8-40D4-41D1-9EF4-47265119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71EE-BAFD-495C-A9D3-ED4CCE71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 Petrick, Parker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4CB15E1-28B6-48FF-A225-847637A3C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80" y="6446880"/>
            <a:ext cx="127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i-fi.org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-Hoc Marketing StudyGroup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por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Petrick,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A6C9-7448-4A26-9F8D-B84BB6D895C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work revising doc:00/288 General Presentation on IEEE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evelop WLAN Forecast (units shipp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WECA update….Nov 2-3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Update documents (joint 802.11/802.1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enda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erence articles – pa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F62-0B48-402D-AF17-7CC54A42771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ireless LAN Forecas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: To generate a 802.11 perspective of the market size in terms of units shi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Survey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/407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ymous Questionnaire Wireless LAN Forecast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LAN Forecast (“Radio” units ship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EEE 802.11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nterprise, 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erprise, 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32B4-8CC3-41A1-9982-D423FA0458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ECA Updat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meeting held Nov 2-3 Santa Rosa, 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: Texas Instr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60 member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50 products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Wi-F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rtified (IEEE 802.11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20 different companies with certified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WECA is committed to testing interoperability of IEEE 802.11a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ing and Technical sub-commit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meeting: Hawaii….Feb, 20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www.wi-fi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ECAheader" descr=""/>
          <p:cNvPicPr/>
          <p:nvPr/>
        </p:nvPicPr>
        <p:blipFill>
          <a:blip r:embed="rId2"/>
          <a:stretch/>
        </p:blipFill>
        <p:spPr>
          <a:xfrm>
            <a:off x="1905120" y="5867280"/>
            <a:ext cx="4757760" cy="58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A2E2-0740-499D-A417-42D06A36B5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bjectives for January – 01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imar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ing WLAN Forecast Model doc 00/4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survey results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condar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overview presentation, calendar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dback from Comdex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C26-5130-4505-AF03-4D59859E0B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Al Petrick</dc:creator>
  <dc:description/>
  <dc:language>en-US</dc:language>
  <cp:lastModifiedBy>Al Petrick</cp:lastModifiedBy>
  <cp:lastPrinted>1998-02-10T13:28:06Z</cp:lastPrinted>
  <dcterms:modified xsi:type="dcterms:W3CDTF">2000-11-09T14:39:51Z</dcterms:modified>
  <cp:revision>71</cp:revision>
  <dc:subject/>
  <dc:title>04048Sm-Ad-Hoc Marketing-Study-Group-Report</dc:title>
</cp:coreProperties>
</file>